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366-9462-42C5-BB19-B476EE0E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297-AF97-4684-9705-34B36C9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2F0-A546-4511-8B56-D37FAD5B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169-6A7F-4A17-823F-C50E08C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8A30-494D-4DB2-A0DD-9C119CF3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7AF8-8D57-41F4-9F3D-B77951F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3E9-5551-4CA4-8C9E-E157C85B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B3E4-2FF9-4706-BCF2-8711831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AA90-0180-4F28-A13D-81BD4C1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8C53-7D4E-4CDC-BF35-237D6BF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1C84-CAF9-4D37-96C9-2CD4891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555-38CA-4867-8DE8-B246D7F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2F9-0D51-4562-B1AD-1BAAC15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67A-66FF-4533-8E46-F53506D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BF8B-16CA-498A-8276-D7E4FC6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677-3E7D-432C-BA7C-56A10ED6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CB36-37F3-4004-84E5-FB37EA21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453-46A4-46B1-BCBA-E9C568F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DC8-55AB-4C38-93A1-97AE8D6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78-9EBE-4FE8-8133-5FFC1669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47F-C8C0-47FD-8658-CE94545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C7-C40E-4C1B-957C-DD907CC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BF5-C89B-422C-98A0-D3361A1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5CE-C395-4C00-8D4B-5925E91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9B1-BEA5-4B45-983B-D19F4A5BF356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4E8-2FEE-4FE8-891B-B82CE31A24EF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100" spc="-1" strike="noStrike">
                <a:solidFill>
                  <a:srgbClr val="ffff00"/>
                </a:solidFill>
                <a:latin typeface="Arial"/>
              </a:rPr>
              <a:t>Prism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Verdana"/>
              </a:rPr>
              <a:t>Sunt corpuri geometrice determinate de două baze, care sunt poligoane congruente, situate în plane parale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cc00"/>
                </a:solidFill>
                <a:latin typeface="Arial"/>
              </a:rPr>
              <a:t>Prismele care se studiază în clasa a 8-a sunt: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aralelipipedul dreptungh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patrulater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Cub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triunghiular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Verdana"/>
              </a:rPr>
              <a:t>Prisma hexagonală regulată dreapt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4c3aa"/>
                </a:solidFill>
                <a:latin typeface="Arial"/>
              </a:rPr>
              <a:t>Paralelipipedul dreptunghic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Este prisma care are bazele dreptunghiur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2666880"/>
            <a:ext cx="4267080" cy="19051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276720"/>
            <a:ext cx="4495680" cy="20574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905120" y="26668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324120" y="2666880"/>
            <a:ext cx="6858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400440" y="4572000"/>
            <a:ext cx="6094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u</cp:lastModifiedBy>
  <dcterms:modified xsi:type="dcterms:W3CDTF">2011-01-13T15:12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